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E69-8550-4AD2-AA15-D7E1193A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441-342C-439B-B98F-6F649E29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664-30EF-46B3-80C4-BB112CC2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365-4D21-433D-A582-6A21B6A7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419-B528-4C22-9F4D-DDC7297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A55-DA0B-4C4F-AF6A-0CE2EE5D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4D8-A8A9-48CD-8587-CDD87A5E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C5D-8045-4102-A036-8DEAE91C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3E2-55D4-4C2C-B2C1-E15444D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85F-B46B-4C54-8108-B82A7DB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388-090C-4118-85CC-A13F0FE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F67-7521-4DFA-B891-01241D4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5CE1-5CA6-46CF-B26D-FEFC6243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633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Monotype Corsiva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103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16360" y="2781360"/>
            <a:ext cx="2808000" cy="71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 rot="877800">
            <a:off x="249120" y="1698120"/>
            <a:ext cx="2540160" cy="1355760"/>
          </a:xfrm>
          <a:prstGeom prst="rightArrow">
            <a:avLst>
              <a:gd name="adj1" fmla="val 50000"/>
              <a:gd name="adj2" fmla="val 4684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omunic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564400">
            <a:off x="0" y="3428640"/>
            <a:ext cx="2843280" cy="1224000"/>
          </a:xfrm>
          <a:prstGeom prst="rightArrow">
            <a:avLst>
              <a:gd name="adj1" fmla="val 50000"/>
              <a:gd name="adj2" fmla="val 58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5600" y="3495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357336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3573360"/>
            <a:ext cx="1800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32360" y="1125000"/>
            <a:ext cx="144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364000" y="1484280"/>
            <a:ext cx="1729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157720"/>
            <a:ext cx="151272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443640" y="3645000"/>
            <a:ext cx="172872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til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Vita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947640" y="404640"/>
            <a:ext cx="1584360" cy="9367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ircolazi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260280"/>
            <a:ext cx="1657080" cy="792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i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667280" y="141300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2421000"/>
            <a:ext cx="1942920" cy="107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mmigrazion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itt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31Z</dcterms:created>
  <dc:creator>studente</dc:creator>
  <dc:description/>
  <dc:language>en-US</dc:language>
  <cp:lastModifiedBy>studente</cp:lastModifiedBy>
  <dcterms:modified xsi:type="dcterms:W3CDTF">2017-01-09T10:06:23Z</dcterms:modified>
  <cp:revision>9</cp:revision>
  <dc:subject/>
  <dc:title>Diapositiva 1</dc:title>
</cp:coreProperties>
</file>